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83E-F038-43C8-8D76-900E3217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955-74FE-4E13-A45A-0DF6B629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6D2-412F-42B1-9CFF-E7561E96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531-1DBA-48E9-ADC8-65C782A1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2AEA-3AC3-4896-B2C0-AD75FDFF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EB25-3675-4635-AE2C-5A9C1D7A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9FF1-AF9F-4C9A-9BA5-D1EE9F53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77EB-6E79-42F0-AE29-5C947DFD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FE11-8641-40D0-9C56-66F878B0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9287-28C1-4E58-B793-B92197A0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6E0E-FC0E-43D7-97CC-86CC0676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E97-F327-40F7-8549-391B7E30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EDC8-F70F-4A7D-A845-C5287FD1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2BBE-3CC3-4DCF-8FC7-8E8AA47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4A0D-7409-478F-869E-458A23CB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37AF-B81B-4E99-9A55-4C515AD2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5C85-5F70-4572-8A6F-9F835616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E97-2C7F-4C04-AE74-937A8247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E92-CE2B-4AFD-86A1-F17DC59C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525-5FC1-4560-8930-8B8C05FE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15D-77AB-48F2-94E1-3B426EC4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0B4-C2D8-4ADD-B1AE-973E996F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441-4E74-475E-BA0E-6A28F36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616-B6E9-4775-BCF3-A59FA69B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8AE1-EFBF-4157-9219-F1343C8EE6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EC2-F1E0-409C-A483-EB075C43F2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Jim Crow and the 1930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o Kill a Mockingbi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1148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rper L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62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perienced Great Depression as a child in 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ly novel is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To Kill a Mokingbir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095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Kill a Mockingbi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kes place in Northern Alabama during 1930s in the heart of the Great Depres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3181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l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agine if you were alive during this time. What would you have done? How would you have reacted? How would you have fel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 complete sentences on the back of your notes she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57200"/>
            <a:ext cx="276696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5658120" cy="2571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29200" y="3581280"/>
            <a:ext cx="3429000" cy="2427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444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im C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62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parate but not equ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aws enforcing racial segregation in education, housing, transportation, and public facili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im C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nied voting rights by grandfather clauses, poll taxes, white primaries, and literacy te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KK was 5 million stro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40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im C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46479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ce rio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ss lynch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ly started by whites by attacking bl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5146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ess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mer A. Plessy was 1/8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lack and 7/8 whit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at in white only railroad an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as arres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lessy case showed discrimination against blacks is accept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presented the legitimization of two societies: one white and advantaged, one black and disadvantag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77120" y="533520"/>
            <a:ext cx="2233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81960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4270320" cy="45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438280" y="3657600"/>
            <a:ext cx="31626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at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29 stock market cra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6 million Americans were unemploy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armers hit hardest because of drough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1529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at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employment rate for blacks was over 5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bs were given to the whi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543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7:14:58Z</dcterms:created>
  <dc:creator>teacher</dc:creator>
  <dc:description/>
  <dc:language>en-US</dc:language>
  <cp:lastModifiedBy>teacher</cp:lastModifiedBy>
  <dcterms:modified xsi:type="dcterms:W3CDTF">2012-11-08T14:14:44Z</dcterms:modified>
  <cp:revision>25</cp:revision>
  <dc:subject/>
  <dc:title>Jim Crow and the 1930s</dc:title>
</cp:coreProperties>
</file>